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EF1-E2BF-45BC-B381-47198AAB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E3B-DE95-48C8-8A7C-696BFCCB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CA9-3CF5-441B-887C-B5B3B370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91A-5725-41C8-B0FC-27AB21BB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EE52-6BA7-47A9-B947-7FD82F86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2C9C-FF69-4968-914C-EE68D9BA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A0C2-3291-4DF6-A3A0-1006D9B8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948A-386F-4FAC-A0C8-19E957DF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3E31-9A84-43B2-A1E6-FBDF87CB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0000-A924-4137-823F-A544523D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D065-E49B-4CB6-8FF9-DD325FC6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91A-B60B-4E82-A0F6-29000EF3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9296-0A04-4524-83E7-5E65956F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A8CF-4A11-4C6F-93D3-73960211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80DF-2F8B-4207-A05A-7B2DEE62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E166-4A22-490D-BF70-743FD264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D532-D550-4B47-81C1-70FAD0AD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54A-A0F4-4D0A-86EE-D11976D8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12F-BA59-4326-8291-C0B55AD1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E51-9943-4E76-A86A-39C981E1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0E0-E1D0-4268-BE65-C31141BE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749-D53F-4705-848C-39E2B51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1EF-3494-4182-9BE6-30C5B847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B47-E7D9-467E-A6E9-CDA5ABAB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81160"/>
            <a:ext cx="190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3752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apital Foreign Language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525360"/>
            <a:ext cx="5871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2190-7C53-4D2C-95B7-0EA6644E826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39C0-596E-48EF-ACBE-B2148A00A38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ssessing Listening Comprehens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apFLP Listening/Speaking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Sacramento, C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ned Language - List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?: comprehends non-sympathetic n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: informal texts, some form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: concrete, factual topics (external environme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type: paragraphs and strings of paragrap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C58-FCAD-48A4-8497-5BA0660649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ening text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en to “Secret of a Perfect Soufflé” again, noting whether the “text” i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ulai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rea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lann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with a part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re with th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2BE-F742-4151-A2B0-E76918022F4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ening activity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“prompts” list to analyze the “Soufflé” comprehension questions according to language r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with a part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re with th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911-B4E0-4768-9E66-FEF6A7A29A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ening prompt prac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your idea for a listening activity – either text-based or extension – and the list of prompt starters, create prompts f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ulai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rea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lann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anguage rating lev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4BA-32D4-470A-A24F-262EA4725A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FLP Assessment Progra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room Oral Competency Interview (COC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room Writing Competency Assessment (CW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room Receptive Competency Matrix (CRC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563-3D25-4FF0-A2F9-F4C5BA8F72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sessment Tra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-day teacher training semin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 language learner proficiency lev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ze “text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ce assess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D0A-2398-4932-BA0F-4E3C9B2A91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nguage Learner Proficienc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ficiency is achieved at differing r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ratings (CA Framework align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ic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ned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tended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2F2-96F5-4BE6-8F51-9D2BBBD241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ulaic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s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memorized words, phrases or sentences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(formul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C68-6FA9-4B22-BE9B-C1EB5662EC5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ulaic Language - List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?: comprehends highly sympathetic n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: highly predictable tex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: discrete elements of daily life focusing on the sel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type: discrete words and phr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360-805B-433D-AE11-E46831C782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ed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s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verall meaning, key ideas, and some supporting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1A2-920C-4770-A66D-82EE39E4D3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ed Language - List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?: comprehends sympathetic n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: transactional, interpersonal, tex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: topics related to self and immediate enviro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type: sentences and strings of sent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E5B-7A03-4D09-A2DC-19CFBA2FD9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ned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s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main ideas and most supporting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52F-6907-444B-AFBB-8CD658053C7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0:28:49Z</dcterms:created>
  <dc:creator>Christine Lanphere</dc:creator>
  <dc:description/>
  <dc:language>en-US</dc:language>
  <cp:lastModifiedBy>Christine Lanphere</cp:lastModifiedBy>
  <dcterms:modified xsi:type="dcterms:W3CDTF">2008-02-22T05:49:32Z</dcterms:modified>
  <cp:revision>21</cp:revision>
  <dc:subject/>
  <dc:title>Assessing Listening Comprehension</dc:title>
</cp:coreProperties>
</file>